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701588" cy="952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816-86D6-4E6B-802B-F86D60E9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4300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5040" y="2222640"/>
            <a:ext cx="1143000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5040" y="5506200"/>
            <a:ext cx="1143000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59A-3B21-4658-B2CF-2E2F34FD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4300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5040" y="2222640"/>
            <a:ext cx="55774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91880" y="2222640"/>
            <a:ext cx="55774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5040" y="5506200"/>
            <a:ext cx="55774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91880" y="5506200"/>
            <a:ext cx="55774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DB0-40E6-4E36-A72F-56A5443A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4300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5040" y="2222640"/>
            <a:ext cx="36802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99640" y="2222640"/>
            <a:ext cx="36802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64240" y="2222640"/>
            <a:ext cx="36802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5040" y="5506200"/>
            <a:ext cx="36802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99640" y="5506200"/>
            <a:ext cx="36802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64240" y="5506200"/>
            <a:ext cx="36802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0E1-28C2-4FD9-BCA5-A55993ED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4300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5040" y="2222640"/>
            <a:ext cx="1143000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7BFE-63CC-4747-9251-689D0F80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4300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5040" y="2222640"/>
            <a:ext cx="114300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792B-593B-474E-A45A-C753E69D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4300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2222640"/>
            <a:ext cx="557748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91880" y="2222640"/>
            <a:ext cx="557748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D2C-D2FA-4A44-A10B-A1760B6E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4300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BC5-3F14-4577-90B4-54933911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5040" y="380880"/>
            <a:ext cx="11430000" cy="73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70A-72E5-4025-A36F-2AA015C0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4300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5040" y="2222640"/>
            <a:ext cx="55774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91880" y="2222640"/>
            <a:ext cx="557748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5040" y="5506200"/>
            <a:ext cx="55774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0704-3376-426E-948D-E1057080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4300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5040" y="2222640"/>
            <a:ext cx="557748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91880" y="2222640"/>
            <a:ext cx="55774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91880" y="5506200"/>
            <a:ext cx="55774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8A86-EC63-46E2-8241-68675D49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4300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5040" y="2222640"/>
            <a:ext cx="55774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91880" y="2222640"/>
            <a:ext cx="55774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5040" y="5506200"/>
            <a:ext cx="1143000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6A9A-A779-49D9-970F-76D50789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4300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5040" y="2222640"/>
            <a:ext cx="114300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4680" y="8827920"/>
            <a:ext cx="2963880" cy="5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38720" y="8827920"/>
            <a:ext cx="4022640" cy="5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00800" y="8827920"/>
            <a:ext cx="2963880" cy="5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4847-8104-4633-AF96-53D889AC2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03:03:51Z</dcterms:created>
  <dc:creator>Daddio</dc:creator>
  <dc:description/>
  <dc:language>en-US</dc:language>
  <cp:lastModifiedBy>Daddio</cp:lastModifiedBy>
  <dcterms:modified xsi:type="dcterms:W3CDTF">2012-12-10T03:10:21Z</dcterms:modified>
  <cp:revision>2</cp:revision>
  <dc:subject/>
  <dc:title>PowerPoint Presentation</dc:title>
</cp:coreProperties>
</file>